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623E-92A7-4CCE-8176-995DB9C51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6941-001C-4E68-8DE7-184D8EF3E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20 minutes, including discussion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y is this helpful?  Have participants share their thoughts on the role that this format of assessment coul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 small step toward assessment for learning.  It provides a template for students to begin to develop proficiency with assessment as learning (i.e., assessing their own understanding and engaging in metacognition focused on identification and resolution of struggles).  It is useful as a daily homework organizer.</a:t>
            </a: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E2F4-1F6E-45CE-B1BF-1DE7803FA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about how the assessment format could address these questions.</a:t>
            </a: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1209-5A16-405D-BE78-462B0898B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tion – 115 minutes, including discussion which follows on next two slides</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CBFE-30CD-4AD3-8EA7-5044D9824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we need categories for this – content/process perhaps (allowing choice of difficulty with content, choice of tool/process for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acilitator selects one or two solutions from each category, depending on time, to discus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ggle to next slide to prompt thinking further around links to big ideas.</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1A75-47A6-4E92-8D90-CCA286E46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F3A9-2814-44C9-B67D-4126166AD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D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could insert slides of graphics of the Important Book, Anticipation Guide, Exit Card (or not!)&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ayer Model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mportant Book – 3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ticipation Guide – 10 minutes  (including some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utes</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082B-A18B-4441-8AC5-A4D83D9B7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CD7D-7AEF-485C-9892-CA4FEB86C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F8900-C1AB-4138-A34A-3DC88ADFC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3598B-7AB0-4548-942B-3E5D52666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E192D-6C6D-4FEC-B44B-EC0560DD0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CB8B4-CBCA-4794-B8CE-58212C3A5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FDF38-A4C6-488B-96A6-A954D6B86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CC922-B389-40ED-92E8-DDCBC9F06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94F1B-E800-4BFA-91DD-C4DDC620F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00C1B-10E2-45A3-9F00-540A025F8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17810-3E6F-42CF-91B8-46FC7288D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BD23F-FF5F-4795-9EB1-EDFF3FB25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EDE34-0B60-45A8-88FB-7177615E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2C1CC-E883-4F0F-AD79-405344126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D32F7-8B61-4167-BA30-07C28DF17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B7B78-F9FE-49AB-98E5-48D1CBFE2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1C3C4-F8D2-4100-A1AE-05B40BA97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41C6F-3BD8-4BAE-A119-80E8386FD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4A63D-F6CB-418E-B539-A1279DD81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038D5-382D-479C-A60A-D7152FDFC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808B-20B8-45DF-8070-43D52ED4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17CE7-4B4C-4F63-A6EA-481BC925D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1467-776D-4A24-AC93-487E4F471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9257-F2E1-480E-ADE5-7951BE1E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6A7C2-B81E-4F1E-9A6F-6B35EAEC2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FE39-2896-4B03-9CB1-ED7ED77A939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6177-9E24-4065-A5F5-AE22F565D3A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Cracking Open a Can of 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specifically, the necessary precision in alignment of assessment and instruction pract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multiple methods and opportunities for assessment </a:t>
            </a:r>
            <a:r>
              <a:rPr b="1" lang="en-CA" sz="2800" spc="-1" strike="noStrike">
                <a:solidFill>
                  <a:srgbClr val="000000"/>
                </a:solidFill>
                <a:latin typeface="Arial"/>
              </a:rPr>
              <a:t>for </a:t>
            </a:r>
            <a:r>
              <a:rPr b="0" lang="en-CA" sz="2800" spc="-1" strike="noStrike">
                <a:solidFill>
                  <a:srgbClr val="000000"/>
                </a:solidFill>
                <a:latin typeface="Arial"/>
              </a:rPr>
              <a:t>learning and assessment </a:t>
            </a:r>
            <a:r>
              <a:rPr b="1" lang="en-CA" sz="2800" spc="-1" strike="noStrike">
                <a:solidFill>
                  <a:srgbClr val="000000"/>
                </a:solidFill>
                <a:latin typeface="Arial"/>
              </a:rPr>
              <a:t>of</a:t>
            </a:r>
            <a:r>
              <a:rPr b="0" lang="en-CA" sz="2800" spc="-1" strike="noStrike">
                <a:solidFill>
                  <a:srgbClr val="000000"/>
                </a:solidFill>
                <a:latin typeface="Arial"/>
              </a:rPr>
              <a:t>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olidate their understanding of the big ideas for quadra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Three Column Quiz</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graphic he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357120" y="1571760"/>
            <a:ext cx="835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How did</a:t>
            </a:r>
            <a:r>
              <a:rPr b="0" lang="en-CA" sz="4800" spc="-1" strike="noStrike">
                <a:solidFill>
                  <a:srgbClr val="990099"/>
                </a:solidFill>
                <a:latin typeface="Garamond"/>
              </a:rPr>
              <a:t>	</a:t>
            </a:r>
            <a:r>
              <a:rPr b="0" lang="en-CA" sz="4800" spc="-1" strike="noStrike">
                <a:solidFill>
                  <a:srgbClr val="990099"/>
                </a:solidFill>
                <a:latin typeface="Garamond"/>
              </a:rPr>
              <a:t>Why did</a:t>
            </a:r>
            <a:r>
              <a:rPr b="0" lang="en-CA" sz="4800" spc="-1" strike="noStrike">
                <a:solidFill>
                  <a:srgbClr val="990099"/>
                </a:solidFill>
                <a:latin typeface="Garamond"/>
              </a:rPr>
              <a:t>	</a:t>
            </a:r>
            <a:r>
              <a:rPr b="0" lang="en-CA" sz="4800" spc="-1" strike="noStrike">
                <a:solidFill>
                  <a:srgbClr val="990099"/>
                </a:solidFill>
                <a:latin typeface="Garamond"/>
              </a:rPr>
              <a:t>Did</a:t>
            </a: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lesson goal?      the big ide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big idea and regroup accordin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a topic within the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ainstorm on what prior knowledge you would want to ass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an open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e students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dentify instructional strategies which respond to indicated student read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Open Questions Part 2</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uster open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this open task be used for:</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instruction</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for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of learn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assessment as learn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3"/>
          <p:cNvSpPr/>
          <p:nvPr/>
        </p:nvSpPr>
        <p:spPr>
          <a:xfrm>
            <a:off x="357120" y="1571760"/>
            <a:ext cx="835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How did</a:t>
            </a:r>
            <a:r>
              <a:rPr b="0" lang="en-CA" sz="4800" spc="-1" strike="noStrike">
                <a:solidFill>
                  <a:srgbClr val="990099"/>
                </a:solidFill>
                <a:latin typeface="Garamond"/>
              </a:rPr>
              <a:t>	</a:t>
            </a:r>
            <a:r>
              <a:rPr b="0" lang="en-CA" sz="4800" spc="-1" strike="noStrike">
                <a:solidFill>
                  <a:srgbClr val="990099"/>
                </a:solidFill>
                <a:latin typeface="Garamond"/>
              </a:rPr>
              <a:t>Why did</a:t>
            </a:r>
            <a:r>
              <a:rPr b="0" lang="en-CA" sz="4800" spc="-1" strike="noStrike">
                <a:solidFill>
                  <a:srgbClr val="990099"/>
                </a:solidFill>
                <a:latin typeface="Garamond"/>
              </a:rPr>
              <a:t>	</a:t>
            </a:r>
            <a:r>
              <a:rPr b="0" lang="en-CA" sz="4800" spc="-1" strike="noStrike">
                <a:solidFill>
                  <a:srgbClr val="990099"/>
                </a:solidFill>
                <a:latin typeface="Garamond"/>
              </a:rPr>
              <a:t>Did</a:t>
            </a: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a:p>
            <a:pPr algn="ctr">
              <a:lnSpc>
                <a:spcPct val="100000"/>
              </a:lnSpc>
              <a:tabLst>
                <a:tab algn="l" pos="0"/>
                <a:tab algn="l" pos="3138480"/>
                <a:tab algn="l" pos="664848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lesson goal?       the big ide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Debrief</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yer Model – revisit the group ver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mportant Book – update the quadratic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nticipation Guide – complete the post colum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it Card – complete and sub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09-07-19T19:11:22Z</dcterms:modified>
  <cp:revision>131</cp:revision>
  <dc:subject/>
  <dc:title>Slide 1</dc:title>
</cp:coreProperties>
</file>